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4B6-3EE0-4A72-BB7E-06206F7A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A2A-D319-4C42-8E7C-33DFB84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0DE-B6B0-4B2E-B4B4-CE0716CD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AA3-36B8-44D1-8B36-99445019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ED9-7C19-4F9D-B607-4F6C248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DBB-41A6-40A9-A461-0B11B63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6A4-0822-4C2E-8664-BC35040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987-F9E5-4F76-AD32-B4EFEB0A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8BB-30BD-4BAD-A541-B72040F9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6AC-160F-4A65-BBA5-9FEB3D8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770-CD69-4786-AAAF-8028594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881-662D-4D14-B122-0E47C19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A0B-6671-4371-8F02-A83AD6593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ng.com/images/search?q=zombie+pics&amp;id=0E41164F2F9226D8338BBFEC8AD60B059A8A55B9&amp;FORM=IGRE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m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cc00"/>
                </a:solidFill>
                <a:uFillTx/>
                <a:latin typeface="Jokerman"/>
              </a:rPr>
              <a:t>By Owe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the zombie yes the face eating undead husk that will turn you in to a hu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Zombie - Resident Evil Wiki - The Resident Evil…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962520"/>
            <a:ext cx="19778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of zom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46672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29000" y="4343400"/>
            <a:ext cx="52578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1300"/>
            </a:gs>
            <a:gs pos="100000">
              <a:srgbClr val="641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01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5Z</dcterms:modified>
  <cp:revision>8</cp:revision>
  <dc:subject/>
  <dc:title>Natural Disasters</dc:title>
</cp:coreProperties>
</file>